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CBFB-9EB5-412A-91DF-BA27F0C1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2E1B-FB30-4EC0-86B6-28656620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7058-A29B-4CDC-B526-6A4A5E27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E5D1-CA58-4888-A042-4774155F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EC44-2CCF-4784-9BA7-DD1A2B6F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4F92-8706-4DD7-B442-542CA47E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A46C-D0A4-42D8-BBF4-432C599B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39F2-091E-4576-89BF-91B1A306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9598-5494-44E7-AD6A-225D9C28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6B23-2EFA-4AC6-B358-10BAB776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335B-11A9-4DB1-92E5-D9EF522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81AB-E2F7-4F80-AEA5-BEEE41E4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D901-7719-4D21-B11D-90BA6CF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C846-7071-419E-9BFE-BEF7B78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097E-6BE8-4769-B417-9AF17029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09FB-9C2E-4132-B770-9672F389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36AA-76FF-4CD5-BB77-704B17D1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F420-DC2C-438E-9B96-74F281C7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56FC-5720-467B-9A9C-A8856498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F113-D7FF-4FE0-B4C0-6AFD8F3B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C472-A4D5-4341-B890-B15B740D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3411-AF72-4EC5-883A-06E450F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8AF6-BB96-4F5D-90D3-2B67D5F1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2273-E01D-4366-A189-EE3269BC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CF23-32C1-402C-BC24-E5AA513C6D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D221-4653-4184-AF89-63C2A7A2A5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Антивирусная защита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в ОС 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Linux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449640" y="549360"/>
            <a:ext cx="37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рошко П.П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ИФИ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60720" y="549360"/>
            <a:ext cx="38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анников А.С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ИФИ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одуль ядра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ZUKO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одолжение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ZU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rite(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truncate(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eat(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cntl(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write(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name(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unt(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система управл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кальное и удаленное управление компонентами АВЗ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заимодействие с другими ПС обеспечения безопас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тоды антивирусной защи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игнатурный анализ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нтивирусный сканер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вристический анализ (антивирусный сканер, антивирусный монитор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муляция процессора (антивирусный сканер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ониторинг и блокировка потенциально опасных действий (антивирусный монитор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онтроль целостности файлов и системных областей (ревизор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вертирование алгоритма заражения при лечении пораженных файлов (сигнатурный анализатор-полифаг в составе антивирусного сканер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920" y="2743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равнительная характеристика существующих средств АВЗ для ОС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Linux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07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8000" y="1600200"/>
          <a:ext cx="8929800" cy="4475160"/>
        </p:xfrm>
        <a:graphic>
          <a:graphicData uri="http://schemas.openxmlformats.org/drawingml/2006/table">
            <a:tbl>
              <a:tblPr/>
              <a:tblGrid>
                <a:gridCol w="1584360"/>
                <a:gridCol w="1079640"/>
                <a:gridCol w="1117440"/>
                <a:gridCol w="1656000"/>
                <a:gridCol w="931680"/>
                <a:gridCol w="1279440"/>
                <a:gridCol w="12812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m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We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тивирус Касперск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d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t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fe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VG Antivir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игнатурный ана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вристичес-кий ана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рафическое у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ниторинг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блокир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троль целостности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фоновом режи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иморфные вирусы в О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ux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вристический анализ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криптографических методов в средствах антивирусной защи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олиморфные вирусы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лиморфные вирусы - это трудно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наруживаемые вирусы, не имеющие сигнатур, то есть не содержащие постоянных участков кода. Достигается это двумя основными способам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шифрованием основного кода вирус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 переменным ключом и изменением расшифровщика без изменения алгоритма шифров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менением исполняемого кода вирус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221440" y="3789360"/>
            <a:ext cx="718920" cy="1943280"/>
          </a:xfrm>
          <a:custGeom>
            <a:avLst/>
            <a:gdLst/>
            <a:ahLst/>
            <a:rect l="l" t="t" r="r" b="b"/>
            <a:pathLst>
              <a:path w="453" h="1224">
                <a:moveTo>
                  <a:pt x="0" y="408"/>
                </a:moveTo>
                <a:lnTo>
                  <a:pt x="453" y="0"/>
                </a:lnTo>
                <a:lnTo>
                  <a:pt x="453" y="1224"/>
                </a:lnTo>
                <a:lnTo>
                  <a:pt x="0" y="816"/>
                </a:lnTo>
                <a:lnTo>
                  <a:pt x="0" y="408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руктура полиморфного виру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1989000"/>
            <a:ext cx="2448000" cy="649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виру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2637000"/>
            <a:ext cx="244980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139920"/>
            <a:ext cx="2449800" cy="649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шифровщ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3789360"/>
            <a:ext cx="2449800" cy="649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о виру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4437000"/>
            <a:ext cx="2449800" cy="649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ок мут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5084640"/>
            <a:ext cx="2449800" cy="649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иф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3789360"/>
            <a:ext cx="2448000" cy="649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ерация клю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4437000"/>
            <a:ext cx="2448000" cy="649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нерация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сорных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струкц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084640"/>
            <a:ext cx="2448000" cy="649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лок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мен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станов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616572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шифрованные дан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6237360"/>
            <a:ext cx="360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2560" y="2997360"/>
            <a:ext cx="2087640" cy="287280"/>
          </a:xfrm>
          <a:prstGeom prst="rightArrowCallout">
            <a:avLst>
              <a:gd name="adj1" fmla="val 25160"/>
              <a:gd name="adj2" fmla="val 25000"/>
              <a:gd name="adj3" fmla="val 75697"/>
              <a:gd name="adj4" fmla="val 80074"/>
            </a:avLst>
          </a:prstGeom>
          <a:solidFill>
            <a:srgbClr val="0099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чало вирус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1844640"/>
            <a:ext cx="2087640" cy="287280"/>
          </a:xfrm>
          <a:prstGeom prst="rightArrowCallout">
            <a:avLst>
              <a:gd name="adj1" fmla="val 25160"/>
              <a:gd name="adj2" fmla="val 25000"/>
              <a:gd name="adj3" fmla="val 75697"/>
              <a:gd name="adj4" fmla="val 80074"/>
            </a:avLst>
          </a:prstGeom>
          <a:solidFill>
            <a:srgbClr val="0099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ка вх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1341360"/>
            <a:ext cx="30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Зараженный фай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ассификация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лиморфных вирус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 сложности используемых приемов и сложности обнаруж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Недостаток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бесполезность для разработчик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антивирусных средст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 уровню модификации программ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еление по уровню модификации программы             (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ombie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ень 1. Модификация на уровне бай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ли сл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ень 2. Модификация на уровне команд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ень 3. Модификация на уровне функциональных вызов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ень 4. Модификация на уровне алгорит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мечание. Каждый следующий уровень инкапсулирует в себе методы предыдущих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00360" y="3716280"/>
            <a:ext cx="3673440" cy="19432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утация кода в ОС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nu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лиморфный движо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ME (Linux Mutation Engin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2916360" y="4219560"/>
            <a:ext cx="3240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нерация ключ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4651200"/>
            <a:ext cx="324000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та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2274840"/>
            <a:ext cx="3672000" cy="1441440"/>
          </a:xfrm>
          <a:prstGeom prst="downArrowCallout">
            <a:avLst>
              <a:gd name="adj1" fmla="val 21703"/>
              <a:gd name="adj2" fmla="val 25757"/>
              <a:gd name="adj3" fmla="val 15319"/>
              <a:gd name="adj4" fmla="val 7614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дрес будущего расшифровщик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зашифрованных данных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акж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дрес шифруемых данны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их размер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5083200"/>
            <a:ext cx="3240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фров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5659560"/>
            <a:ext cx="647640" cy="288720"/>
          </a:xfrm>
          <a:prstGeom prst="downArrow">
            <a:avLst>
              <a:gd name="adj1" fmla="val 50000"/>
              <a:gd name="adj2" fmla="val 4081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5948280"/>
            <a:ext cx="3673440" cy="54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дрес и размер расшифровщи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зашифрованных данны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37879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налитические данные (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ww.idc.com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ля ОС на рынк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inux – 24%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ервер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nix – 32%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ервер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indows – 37%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ервер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 прогнозам аналитиков к 2007 году доля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nux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серверов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величится до 33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личество вирус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С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inux –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отн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C Windows –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есятки тысяч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наружение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лиморфных вирус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риптоанализ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атистический анал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тоды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вристического анали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татический.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иск эвристических признаков, например, общих коротких сигнатур (подозрительных команд), присутствующих в большинстве вирусов. Если найдено достаточное количество признаков, принимается решение, что файл инфицирова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инамический.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муляция анализируемой программ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протоколировании всех подозрительных ее действ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основе этого протокола принимается решени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 возможном заражении программы вирус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достатки эвристического анализ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возможность обнаружения всех вирусов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зможны ложные срабатыва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меры эвристических признаков файловых вирусов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nux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68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стандартный размер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LF-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головка (сильный эвристический признак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личие сигнатуры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LF-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айла не в начале файла (слабый эвристический признак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4365720"/>
            <a:ext cx="187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 45 4C 4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4797360"/>
            <a:ext cx="187164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4006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F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5230800"/>
            <a:ext cx="187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 45 4C 4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5662440"/>
            <a:ext cx="187164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5230800"/>
            <a:ext cx="2592360" cy="504720"/>
          </a:xfrm>
          <a:prstGeom prst="rightArrowCallout">
            <a:avLst>
              <a:gd name="adj1" fmla="val 20270"/>
              <a:gd name="adj2" fmla="val 19495"/>
              <a:gd name="adj3" fmla="val 52313"/>
              <a:gd name="adj4" fmla="val 82810"/>
            </a:avLst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знак возможног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личия вирус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2924280"/>
            <a:ext cx="1871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F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1989000"/>
            <a:ext cx="1871640" cy="93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F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голов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1989000"/>
            <a:ext cx="432000" cy="935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2276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0 бай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бнаружение вирусов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 помощи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лавающих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”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сигнатур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348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метод основан на использовании регулярных выраж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воначальная сигнатура виру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мененная сигнатура виру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гнатурный анал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тод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лавающих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игнату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3284640"/>
            <a:ext cx="410544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1 C0 B0 01 CD 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149720"/>
            <a:ext cx="410544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1 90 C0 90 90 B0 01 90 CD 90 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5013360"/>
            <a:ext cx="410544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1 C0 B0 01 CD 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5950080"/>
            <a:ext cx="4105440" cy="360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1 ?? C0   *   B0 01 ?? CD *  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иптографические методы защиты антивирусных средс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амоконтроль целостности компонен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пользование электронно-цифровой подписи (ЭЦП) для защиты баз данных от изменен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443640" y="5084640"/>
            <a:ext cx="2016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пис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щита антивирусных баз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1916280"/>
            <a:ext cx="2808000" cy="3313080"/>
          </a:xfrm>
          <a:prstGeom prst="can">
            <a:avLst>
              <a:gd name="adj" fmla="val 161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аз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анны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557360"/>
            <a:ext cx="554508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аза сжимается функцией хеширования (алгоритм MD5) до 256-битового значения (H). Подпись S вычисляется следующим образ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S = H</a:t>
            </a:r>
            <a:r>
              <a:rPr b="1" lang="en-US" sz="2400" spc="-1" strike="noStrike" baseline="50000">
                <a:solidFill>
                  <a:srgbClr val="ffffff"/>
                </a:solidFill>
                <a:latin typeface="Garamond"/>
              </a:rPr>
              <a:t> d</a:t>
            </a:r>
            <a:r>
              <a:rPr b="1" lang="ru-RU" sz="2400" spc="-1" strike="noStrike" baseline="50000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mod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дпись пересылается вместе с баз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верка заключается в получени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хеш-образа базы H' и сравнении с Н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 = S</a:t>
            </a:r>
            <a:r>
              <a:rPr b="1" lang="en-US" sz="2400" spc="-1" strike="noStrike" baseline="50000">
                <a:solidFill>
                  <a:srgbClr val="ffffff"/>
                </a:solidFill>
                <a:latin typeface="Garamond"/>
              </a:rPr>
              <a:t> e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mod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H – хеш-образ баз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S – ЭЦП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d - секретный ключ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e - открытый клю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сколько уязвима ОС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nux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ва мн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Если бы  ОС Linux была распространен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акже широко, как ОС Windows в качестве «настольного» стандарта, вирусов под Linux было бы столько ж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Linux обладает рядом уникальных особенностей, которые сильно осложняют задачу написания вирусов под эту ОС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потому автоматически делают её менее привлекательной для вирусописателей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отивы создателей вирус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Хулиганские побуж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териальная выг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ктуальность антивирусной защиты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для КС, функционирующих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од управлением ОС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Linux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ост продаж ОС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nux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серверов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 также рабочих станц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ост числа вирусов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nux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платфор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Через компьютеры, работающие на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nux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платформах, могут проходить разные типы виру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лнофункциональная система антивирусной защиты (АВЗ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дсистема сканирован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(антивирусный сканер, база сигнатур, база эвристических признаков, программное средство (ПС) пополнения баз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дсистема обнаружения вирусной активност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(антивирусный монитор, ревизор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дсистема управлен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(ПС централизованного управления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система сканир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наружение вирусов до получе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ми управл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ечение пораженных фай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33336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система обнаружения вирусной активн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бнаружение вирусов в момент получен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правления (антивирусный монитор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бнаружение последствий вирусной активности (ревизор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одуль ядра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ZUK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ZU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pen(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ose(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ec(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link(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mdir(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p(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p2(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22:22:50Z</dcterms:created>
  <dc:creator>msa</dc:creator>
  <dc:description/>
  <dc:language>en-US</dc:language>
  <cp:lastModifiedBy>Руслан</cp:lastModifiedBy>
  <dcterms:modified xsi:type="dcterms:W3CDTF">2006-02-02T11:30:47Z</dcterms:modified>
  <cp:revision>248</cp:revision>
  <dc:subject/>
  <dc:title>cryptovirology</dc:title>
</cp:coreProperties>
</file>